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  <p:custShowLst>
    <p:custShow name="Transparencies" id="0">
      <p:sldLst>
        <p:sld r:id="rId9"/>
        <p:sld r:id="rId21"/>
      </p:sldLst>
    </p:custShow>
    <p:custShow name="Chapter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  <p:custShow name="Section 1" id="2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  <p:custShow name="Section 2" id="3">
      <p:sldLst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  <p:custShow name="Section 3" id="4">
      <p:sldLst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528336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657440" cy="393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6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3"/>
          <p:cNvSpPr/>
          <p:nvPr/>
        </p:nvSpPr>
        <p:spPr>
          <a:xfrm>
            <a:off x="3352680" y="-914400"/>
            <a:ext cx="1043280" cy="157644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576440"/>
              <a:gd name="textAreaBottom" fmla="*/ 1509120 h 1576440"/>
            </a:gdLst>
            <a:ahLst/>
            <a:rect l="textAreaLeft" t="textAreaTop" r="textAreaRight" b="textAreaBottom"/>
            <a:pathLst>
              <a:path w="21600" h="32635">
                <a:moveTo>
                  <a:pt x="0" y="0"/>
                </a:moveTo>
                <a:lnTo>
                  <a:pt x="21600" y="0"/>
                </a:lnTo>
                <a:lnTo>
                  <a:pt x="21600" y="32635"/>
                </a:lnTo>
                <a:lnTo>
                  <a:pt x="0" y="32635"/>
                </a:lnTo>
                <a:close/>
              </a:path>
              <a:path fill="lightenLess" w="21600" h="326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635">
                <a:moveTo>
                  <a:pt x="21600" y="0"/>
                </a:moveTo>
                <a:lnTo>
                  <a:pt x="21600" y="32635"/>
                </a:lnTo>
                <a:lnTo>
                  <a:pt x="20200" y="31235"/>
                </a:lnTo>
                <a:lnTo>
                  <a:pt x="20200" y="1400"/>
                </a:lnTo>
                <a:close/>
              </a:path>
              <a:path fill="darkenLess" w="21600" h="32635">
                <a:moveTo>
                  <a:pt x="21600" y="32635"/>
                </a:moveTo>
                <a:lnTo>
                  <a:pt x="0" y="32635"/>
                </a:lnTo>
                <a:lnTo>
                  <a:pt x="1400" y="31235"/>
                </a:lnTo>
                <a:lnTo>
                  <a:pt x="20200" y="31235"/>
                </a:lnTo>
                <a:close/>
              </a:path>
              <a:path fill="lighten" w="21600" h="32635">
                <a:moveTo>
                  <a:pt x="0" y="3263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23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28336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nimal and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762120" y="1981080"/>
            <a:ext cx="76197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n Anim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5"/>
          <p:cNvSpPr/>
          <p:nvPr/>
        </p:nvSpPr>
        <p:spPr>
          <a:xfrm>
            <a:off x="762120" y="1981080"/>
            <a:ext cx="4343400" cy="457200"/>
          </a:xfrm>
          <a:custGeom>
            <a:avLst/>
            <a:gdLst>
              <a:gd name="textAreaLeft" fmla="*/ 29520 w 4343400"/>
              <a:gd name="textAreaRight" fmla="*/ 4313880 w 4343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05056" h="21600">
                <a:moveTo>
                  <a:pt x="0" y="0"/>
                </a:moveTo>
                <a:lnTo>
                  <a:pt x="205056" y="0"/>
                </a:lnTo>
                <a:lnTo>
                  <a:pt x="205056" y="21600"/>
                </a:lnTo>
                <a:lnTo>
                  <a:pt x="0" y="21600"/>
                </a:lnTo>
                <a:close/>
              </a:path>
              <a:path fill="lightenLess" w="205056" h="21600">
                <a:moveTo>
                  <a:pt x="0" y="0"/>
                </a:moveTo>
                <a:lnTo>
                  <a:pt x="205056" y="0"/>
                </a:lnTo>
                <a:lnTo>
                  <a:pt x="203656" y="1400"/>
                </a:lnTo>
                <a:lnTo>
                  <a:pt x="1400" y="1400"/>
                </a:lnTo>
                <a:close/>
              </a:path>
              <a:path fill="darken" w="205056" h="21600">
                <a:moveTo>
                  <a:pt x="205056" y="0"/>
                </a:moveTo>
                <a:lnTo>
                  <a:pt x="205056" y="21600"/>
                </a:lnTo>
                <a:lnTo>
                  <a:pt x="203656" y="20200"/>
                </a:lnTo>
                <a:lnTo>
                  <a:pt x="203656" y="1400"/>
                </a:lnTo>
                <a:close/>
              </a:path>
              <a:path fill="darkenLess" w="205056" h="21600">
                <a:moveTo>
                  <a:pt x="205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56" y="20200"/>
                </a:lnTo>
                <a:close/>
              </a:path>
              <a:path fill="lighten" w="205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7"/>
          <p:cNvSpPr/>
          <p:nvPr/>
        </p:nvSpPr>
        <p:spPr>
          <a:xfrm>
            <a:off x="762120" y="2819520"/>
            <a:ext cx="4038480" cy="304560"/>
          </a:xfrm>
          <a:custGeom>
            <a:avLst/>
            <a:gdLst>
              <a:gd name="textAreaLeft" fmla="*/ 19440 w 4038480"/>
              <a:gd name="textAreaRight" fmla="*/ 4019040 w 4038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86104" h="21600">
                <a:moveTo>
                  <a:pt x="0" y="0"/>
                </a:moveTo>
                <a:lnTo>
                  <a:pt x="286104" y="0"/>
                </a:lnTo>
                <a:lnTo>
                  <a:pt x="286104" y="21600"/>
                </a:lnTo>
                <a:lnTo>
                  <a:pt x="0" y="21600"/>
                </a:lnTo>
                <a:close/>
              </a:path>
              <a:path fill="lightenLess" w="286104" h="21600">
                <a:moveTo>
                  <a:pt x="0" y="0"/>
                </a:moveTo>
                <a:lnTo>
                  <a:pt x="286104" y="0"/>
                </a:lnTo>
                <a:lnTo>
                  <a:pt x="284704" y="1400"/>
                </a:lnTo>
                <a:lnTo>
                  <a:pt x="1400" y="1400"/>
                </a:lnTo>
                <a:close/>
              </a:path>
              <a:path fill="darken" w="286104" h="21600">
                <a:moveTo>
                  <a:pt x="286104" y="0"/>
                </a:moveTo>
                <a:lnTo>
                  <a:pt x="286104" y="21600"/>
                </a:lnTo>
                <a:lnTo>
                  <a:pt x="284704" y="20200"/>
                </a:lnTo>
                <a:lnTo>
                  <a:pt x="284704" y="1400"/>
                </a:lnTo>
                <a:close/>
              </a:path>
              <a:path fill="darkenLess" w="286104" h="21600">
                <a:moveTo>
                  <a:pt x="286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704" y="20200"/>
                </a:lnTo>
                <a:close/>
              </a:path>
              <a:path fill="lighten" w="286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762120" y="3505320"/>
            <a:ext cx="4572000" cy="390240"/>
          </a:xfrm>
          <a:custGeom>
            <a:avLst/>
            <a:gdLst>
              <a:gd name="textAreaLeft" fmla="*/ 25200 w 4572000"/>
              <a:gd name="textAreaRight" fmla="*/ 4546800 w 4572000"/>
              <a:gd name="textAreaTop" fmla="*/ 25200 h 390240"/>
              <a:gd name="textAreaBottom" fmla="*/ 365040 h 390240"/>
            </a:gdLst>
            <a:ahLst/>
            <a:rect l="textAreaLeft" t="textAreaTop" r="textAreaRight" b="textAreaBottom"/>
            <a:pathLst>
              <a:path w="252849" h="21600">
                <a:moveTo>
                  <a:pt x="0" y="0"/>
                </a:moveTo>
                <a:lnTo>
                  <a:pt x="252849" y="0"/>
                </a:lnTo>
                <a:lnTo>
                  <a:pt x="252849" y="21600"/>
                </a:lnTo>
                <a:lnTo>
                  <a:pt x="0" y="21600"/>
                </a:lnTo>
                <a:close/>
              </a:path>
              <a:path fill="lightenLess" w="252849" h="21600">
                <a:moveTo>
                  <a:pt x="0" y="0"/>
                </a:moveTo>
                <a:lnTo>
                  <a:pt x="252849" y="0"/>
                </a:lnTo>
                <a:lnTo>
                  <a:pt x="251449" y="1400"/>
                </a:lnTo>
                <a:lnTo>
                  <a:pt x="1400" y="1400"/>
                </a:lnTo>
                <a:close/>
              </a:path>
              <a:path fill="darken" w="252849" h="21600">
                <a:moveTo>
                  <a:pt x="252849" y="0"/>
                </a:moveTo>
                <a:lnTo>
                  <a:pt x="252849" y="21600"/>
                </a:lnTo>
                <a:lnTo>
                  <a:pt x="251449" y="20200"/>
                </a:lnTo>
                <a:lnTo>
                  <a:pt x="251449" y="1400"/>
                </a:lnTo>
                <a:close/>
              </a:path>
              <a:path fill="darkenLess" w="252849" h="21600">
                <a:moveTo>
                  <a:pt x="252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49" y="20200"/>
                </a:lnTo>
                <a:close/>
              </a:path>
              <a:path fill="lighten" w="252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im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urvival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62120" y="1959120"/>
            <a:ext cx="7619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inding Foo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s find food in many ways. Animals that eat other animals are known 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rking Territor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, members of the same species must compete for food and mates. Some animals claim territories to save energy by avoiding this compet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im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urvival Behavior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62120" y="1828800"/>
            <a:ext cx="76197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fensive A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 Animals defend food, mates, and offspring</a:t>
            </a:r>
            <a:r>
              <a:rPr b="0" lang="en-US" sz="2400" spc="-1" strike="noStrike">
                <a:solidFill>
                  <a:srgbClr val="ffffff"/>
                </a:solidFill>
                <a:latin typeface="StoneSerif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urtshi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s need to find mates to reproduce. Reproduction is essential for the survival of an individual’s genes. Animals have special behaviors,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urtship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ren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young animals depend on their parents for surv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im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62120" y="123660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asonal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62120" y="1959120"/>
            <a:ext cx="7619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igr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nimals avoid cold weather by traveling to warmer places. These animals migrate to find food, water, or safe nesting grounds.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g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lowing Dow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animals deal with food and water shortages by hibernating.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iber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im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62120" y="123660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asonal Behavior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62120" y="1911240"/>
            <a:ext cx="7619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 Biological Cloc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 biological clock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s use clues such as the length of the day and the temperature to set their c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ycles of Cha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biological clocks control long cycles. Seasonal cycles are nearly universal for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62120" y="1959120"/>
            <a:ext cx="7619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ur ways that animals 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advantages and disadvantages of living in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62120" y="1959120"/>
            <a:ext cx="76197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nding a Sign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munication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ignal must *. Communication helps animals survive. Many anima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e to defend a territory from other members of the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ys to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762120" y="1959120"/>
            <a:ext cx="7619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u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animals communicate by making noises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und is a signal that can reach many animals over a large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ou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s may also use touch to communicate. This activity is an important way for primates to 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ays to Communicate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762120" y="1959120"/>
            <a:ext cx="76197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emica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way to communicate is through chemicals. * are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erom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gh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imals also use visual communication. When we smile at a friend, we are sending a visual message wit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dy languag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shown on the next slide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s use body language, along with other forms of communication, to spread news about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9" descr=""/>
          <p:cNvPicPr/>
          <p:nvPr/>
        </p:nvPicPr>
        <p:blipFill>
          <a:blip r:embed="rId2"/>
          <a:stretch/>
        </p:blipFill>
        <p:spPr>
          <a:xfrm>
            <a:off x="914400" y="1023840"/>
            <a:ext cx="739152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Living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762120" y="1959120"/>
            <a:ext cx="76197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Benefits of Living in 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Living in groups can be safer than living alone. Large groups can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Downside of Living in Grou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ving in groups causes problems as well. Animals living in large groups must *. An area that has enough food for one animal may not have enough food for a group of animals.</a:t>
            </a:r>
            <a:r>
              <a:rPr b="0" lang="en-US" sz="2400" spc="-1" strike="noStrike">
                <a:solidFill>
                  <a:srgbClr val="000000"/>
                </a:solidFill>
                <a:latin typeface="Stone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n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762120" y="1959120"/>
            <a:ext cx="76197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difference between vertebrates and inverteb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five characteristics that all animals sh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n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imal Diver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838080" y="1981080"/>
            <a:ext cx="76294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ertebra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erteb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*. Vertebrates include fishes, amphibians, reptiles, birds, and mam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vertebra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nimal species are insects, snails, jellyfish, worms, and othe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rtebrates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n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imal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38080" y="1981080"/>
            <a:ext cx="762948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lticellular Make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nimals are multicellular, which means they are made of many cells. Animal cells a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karyotic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ich means they have a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production and Develop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ost all animals reproduce sexually. These animals make sex cells—eggs or sperm. When an egg and a sperm join during fertilization, they form the first cell of a new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n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imal Characteristic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838080" y="1981080"/>
            <a:ext cx="7629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ny Specialized Pa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nimal’s body has distinct parts that do different things. Most animals also have organs. 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rg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*. The next slide illustrates the many specialized parts of a shark</a:t>
            </a:r>
            <a:r>
              <a:rPr b="0" lang="en-US" sz="2400" spc="-1" strike="noStrike">
                <a:solidFill>
                  <a:srgbClr val="ffffff"/>
                </a:solidFill>
                <a:latin typeface="Stone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n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685800" y="1486080"/>
            <a:ext cx="7848720" cy="40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an Anim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nimal Characteristics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838080" y="1981080"/>
            <a:ext cx="762948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ov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nimals can move from place to place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arly all animals use movement to search for food, shelter, or mates at some stage of l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sum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nimals survive by eating other organisms or parts and products of other organisms. In other words, animals are consumers. 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sum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*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im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2120" y="1959120"/>
            <a:ext cx="7619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difference between learned and innate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ve kinds of behaviors that help animals surv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biological clocks affect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im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inds of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762120" y="1959120"/>
            <a:ext cx="76197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nate Behav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is known as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nate behavior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ate behaviors are inherited through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arned Behav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ate behaviors can be modified. Animals can use learning to change a behavior.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arned behavi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behavior that has been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045080" y="20160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4-02-04T16:41:32Z</dcterms:modified>
  <cp:revision>749</cp:revision>
  <dc:subject/>
  <dc:title>No Slide Title</dc:title>
</cp:coreProperties>
</file>